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FAA-7D90-4A55-A3E5-53A1C98C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se questions before lunch, set up a wiki analog for after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se questions before lunch, set up a wiki analog for after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CC5-3F62-4456-AF80-5A0C4846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25D-8AF0-4D88-AF95-695315CB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478-461C-43E2-8264-DDA14AD9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04D-CEEE-461C-8A22-E07D7655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21B-70C2-4FC0-9304-E4D7DD7F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F82-DAE3-42E7-B69A-A09F0A8F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136-EB24-4C18-AD9E-5895262F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41A-972A-4E79-806D-B1D3FE34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B6D-4FE3-442A-8AC1-7A97F8F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FAE-7BBB-4769-9593-8CC0037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41B-B6AC-41D0-836F-743542B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37E-FABF-4BF5-9E67-D1BCFD1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8C1-3BFA-4CBC-A051-E6F40AC9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assblogmeister.com/blog.php?blogger_id=102127" TargetMode="External"/><Relationship Id="rId2" Type="http://schemas.openxmlformats.org/officeDocument/2006/relationships/hyperlink" Target="http://classblogmeister.com/blog.php?blogger_id=102127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dO9idmax0o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logs.wsj.com/buzzwatch/2008/06/06/social-media-yes-twitter-users-we-know-amazon-was-down/?mod=googlenews_wsj" TargetMode="External"/><Relationship Id="rId2" Type="http://schemas.openxmlformats.org/officeDocument/2006/relationships/hyperlink" Target="http://edition.cnn.com/2008/TECH/06/05/twitter.maree/" TargetMode="External"/><Relationship Id="rId3" Type="http://schemas.openxmlformats.org/officeDocument/2006/relationships/hyperlink" Target="http://venturebeat.com/2008/06/08/as-the-wwdc-threat-looms-twitter-improves/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dnL00TdmLY" TargetMode="External"/><Relationship Id="rId2" Type="http://schemas.openxmlformats.org/officeDocument/2006/relationships/hyperlink" Target="http://www.youtube.com/watch?v=-dnL00TdmLY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suptechnology.wikispaces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N2I1pWXjXI" TargetMode="External"/><Relationship Id="rId2" Type="http://schemas.openxmlformats.org/officeDocument/2006/relationships/hyperlink" Target="http://www.youtube.com/watch?v=NN2I1pWXjXI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Centered 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nd Wikis in an Elementary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232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5800" y="525780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room24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91960" y="762120"/>
            <a:ext cx="29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42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1040" y="228600"/>
            <a:ext cx="48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s living ab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ll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wicht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en Kuropa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adifference.blogspot.c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e’s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rade7math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se and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blog you are interested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 few posts and comment on sev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using technorati.com 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Tr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S 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Your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(Blogger, Edublogger, Blogmei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or Student-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and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ding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Blogging Sa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Guidelines –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afegu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ng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ng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B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jefflewis and room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se and Cre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blog for yourself, either professional or for your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first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URL so we can all follow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d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logs! (on the Wi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www.mrlewisworldlearners.blog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 and Microb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k Twitter Users, We Know, Amazon I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n Twitters His Way Out of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 the WWDC threat looms, Twitter im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Phone Announced, Twitter will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e Tw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in to your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–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ow know about blogging that you didn’t know when you arri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Wikis and what do you want to know about wik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ww.mrlewisworldlearners.blogspot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rade Leadership Conference, May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How Could You 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l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collaborative effort to bring us into wik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Wik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625320"/>
            <a:ext cx="80769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36640" y="1387440"/>
            <a:ext cx="5807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alsuptechnology.wikispaces.c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a Wik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llaborativ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Online Collaborativ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l for Researc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ve Intellig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Schwichtenberg’s Responsibilities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e Mann State Intervie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afegu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your wiki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your wiki i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se and Cre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 wiki using wikispaces, pbwiki or wet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options for customizing your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ew blog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purpose of blogs and wikis in an elementary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 blog, either professional or student cen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witter account and begin to build a professional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he uses for a wiki and create your own for professional or student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og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in Plain English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contrib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p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Filing Cabinet (www.room24.blogspot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 and Arti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gs, Wikis, Podc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ther Powerful Web To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Classro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Will Richard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win Pres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blogg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696080" cy="3848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754520"/>
            <a:ext cx="69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incipianteglobal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52:04Z</dcterms:created>
  <dc:creator>teacher</dc:creator>
  <dc:description/>
  <dc:language>en-US</dc:language>
  <cp:lastModifiedBy>teacher</cp:lastModifiedBy>
  <dcterms:modified xsi:type="dcterms:W3CDTF">2008-06-10T20:29:43Z</dcterms:modified>
  <cp:revision>11</cp:revision>
  <dc:subject/>
  <dc:title>Student Centered Teaching and Learning</dc:title>
</cp:coreProperties>
</file>